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30032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APIs are being dropped in the 64-bit transition, especially Carbon GUI calls and the old C QuickTime API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rminal now has rigidly correct text spacing for bitmap fonts - finally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wnloaded file tracking implemented using xattr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speaking of Quartz, the big news in the performance area is..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z Extreme already accelerated compositing in window manag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hardware acceleration for QuickDraw (deprecated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esent but not enabled in 10.4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all apps use it... eg: Safari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hone is driving Safari to be faster and small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fari now available for Windows too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ffects are a gimmick, but backgrounds are actually useful... not everybody’s webcam points to a neat part of their home/offic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tent sharing uses Quick Look plug-in architectur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multaneous logins good for work + personal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ZFS implementation in the future based on snapshots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uld solve the “large file slightly changed” issu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uld also solve the verification issu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uld also allow easy compression and encryptio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more silly popup menu unless you want it (Esc)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more pressing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for autocomplet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so new NSGridView widget, an animated grid-like container ala the Dock or iChat list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yes, I’m sure the iPhone’s animated GUI is very much based on Core Animatio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reen sharing will be very useful for remote help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indows is the new Classic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ller folder color is supposed to indicate recycled cardboard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heck out the reflections on the Dock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t also reflects windows when they’re close b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CI problems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) Stack of icons unreadable, and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fusing if just a single icon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) Curved fan difficult to navigate, and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oves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if Dock magnification is turned o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) Fan is in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ost recen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/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verse alphabetical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order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) “Show in Finder” is at the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of a fan?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n also jump into full-screen mod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lug-in architecture, also used in other apps: iChat, Time Machin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paces is best for managing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oups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of windows all at onc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 for tasks that use lots of windows: programming, web desig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use Spaces just so that you can have iTunes in one screen, Mail in another, and so on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st close or iconify those windows when not in use, and click on them in the Dock to bring them up when needed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17114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3927240"/>
            <a:ext cx="37681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291600"/>
            <a:ext cx="117025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39272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1711440"/>
            <a:ext cx="5710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3927240"/>
            <a:ext cx="117025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291600"/>
            <a:ext cx="11702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1711440"/>
            <a:ext cx="117025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6400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336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54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724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10880" indent="-40860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10880" indent="-408600"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82680" y="1155600"/>
            <a:ext cx="10414080" cy="25783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10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82320" y="3772080"/>
            <a:ext cx="10401480" cy="28828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69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Click to edit the title text format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43280" y="1663560"/>
            <a:ext cx="909288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marL="449280"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449280" indent="-449280">
              <a:spcBef>
                <a:spcPts val="2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UNIX Foundation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71800" y="1574640"/>
            <a:ext cx="9105840" cy="55627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64-bit support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 for all applic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t just command line any mo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797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especially important for x8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DTrace / Instru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realtime, low-overhead execution trac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57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rom Solari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ZFS filesystem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read-only, beta read/writ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57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lso from Solari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l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ndicates extended attributes with @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erminal enhanc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Security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77960" y="1434960"/>
            <a:ext cx="9639360" cy="5639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Tracking of web-downloaded fi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arns you when you first open a downloaded fi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New “application-level” firew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easier to understand for nov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ut less configurable for expe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Process sandbox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process rights &amp; MAC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ll be great in the long ter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dress space randomiz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de sign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162576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Performance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92080" y="1650600"/>
            <a:ext cx="9766440" cy="54356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CPU affinity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or multiprocessors &amp; multico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440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less bouncing between process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Improved paging/swapp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lgorith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440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mportant for laptops with limited R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potlight noticeably fast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Multithreaded OpenG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440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th LLVM JIT for unsupported OpenGL shad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re Quartz/Aqua performance tun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Quartz GL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2760" y="20304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587600"/>
            <a:ext cx="10325160" cy="28065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Hardware acceleration for Quartz draw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94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on recent graphics cards (uses GPU shader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841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enabled on a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per-application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basi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so frees up RAM used for window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94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ndows can live in VRAM (mostl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692360" y="4140360"/>
            <a:ext cx="1117440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Safari 3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58840" y="3352320"/>
            <a:ext cx="9093240" cy="3784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en faster (was already fastest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974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nd uses less memory to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ave/restore 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ol new inline sear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b clippings for Dashboar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sizable text fields, rearrangeable ta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974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21140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... still definitely the best 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057400" y="1409760"/>
            <a:ext cx="10414080" cy="21844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31200" y="1879560"/>
            <a:ext cx="4584600" cy="3314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531200" y="1892160"/>
            <a:ext cx="4584600" cy="3302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iChat 4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82760" y="19044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76" name=""/>
          <p:cNvSpPr/>
          <p:nvPr/>
        </p:nvSpPr>
        <p:spPr>
          <a:xfrm>
            <a:off x="945360" y="1905120"/>
            <a:ext cx="473724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Backgrounds and effec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1029600" y="2692440"/>
            <a:ext cx="39844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asy content shar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"/>
          <p:cNvSpPr/>
          <p:nvPr/>
        </p:nvSpPr>
        <p:spPr>
          <a:xfrm>
            <a:off x="1871280" y="3187800"/>
            <a:ext cx="44218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... photos, PDFs, scree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"/>
          <p:cNvSpPr/>
          <p:nvPr/>
        </p:nvSpPr>
        <p:spPr>
          <a:xfrm>
            <a:off x="965880" y="3898800"/>
            <a:ext cx="656316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Audio &amp; video chats with Window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"/>
          <p:cNvSpPr/>
          <p:nvPr/>
        </p:nvSpPr>
        <p:spPr>
          <a:xfrm>
            <a:off x="887040" y="5168880"/>
            <a:ext cx="55144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ultiple simultaneous logi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1282680" y="5803920"/>
            <a:ext cx="7353360" cy="5587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abs, animated buddy icons, SMS forwar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2884680" y="6464160"/>
            <a:ext cx="769068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till no MSN, Yahoo! or Skype support 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:-(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1007280" y="4533840"/>
            <a:ext cx="5199120" cy="487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Record audio &amp; video cha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955880" y="1447920"/>
            <a:ext cx="10794960" cy="5651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imple, highly automated backu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19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ll be first backup of any kind for many us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et &amp; forget, very little human involv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26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ackups run every hour if backup disk is connec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Easy, user-friendly resto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19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th very cool GUI ;-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ome important limi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19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ingle backup, no ro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 compression, no encryption, no verific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26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nteracts poorly with large files, disk images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06440" y="291960"/>
            <a:ext cx="162540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Time Machine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438280" y="1739880"/>
            <a:ext cx="8115480" cy="50799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38280" y="1739880"/>
            <a:ext cx="81154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For Developer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14240" y="1307880"/>
            <a:ext cx="9728280" cy="5994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Xcode 3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nline autocomplete using tab key,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yay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code focus, code fol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444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error messages as popup bub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224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improved debugger, doc view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224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... Subversion integr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Objective-C 2.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adds garbage collection, proper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aster method dispatch!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FSEv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ormerly private API for Spot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120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w also used by Finder,  Time Machine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9040" y="279360"/>
            <a:ext cx="1739880" cy="1739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Core Animation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87600" y="1510920"/>
            <a:ext cx="11353680" cy="5676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8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c OS X has always had lots of anim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Dock, genie effect, throbbing buttons, pulsing progress bars,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516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ding sheets, fade transitions, Exposé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38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ut it’s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hard work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or programmers 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:-(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imp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library for basic anim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uper-easy to use (specify goal only, just a few lin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51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runs in its own thread, no user code for animation lo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3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handles Quartz, QuickTime, OpenGL &amp; GUI el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ould enable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lot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of new animated effec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2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ome useful, others just gratuitous 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;-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Miscellaneou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52400" y="1663560"/>
            <a:ext cx="9969480" cy="5486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tter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potlight interfac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, with nes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ystem-wide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grammar checker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green underli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To-do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shared between iCal &amp;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ionary for Mai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Screen shar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VNC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mproved Networking system preferen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re advanced parental controls (bed-time limits etc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Resize disk partition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rom within Disk Util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oot Camp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now bundled with O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No more Classic 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:-(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1440" y="888480"/>
            <a:ext cx="11188440" cy="25146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Optima"/>
                <a:ea typeface="Optima"/>
              </a:rPr>
              <a:t>Mac</a:t>
            </a:r>
            <a:r>
              <a:rPr b="1" lang="en-US" sz="6100" spc="-1" strike="noStrike">
                <a:solidFill>
                  <a:srgbClr val="ffffff"/>
                </a:solidFill>
                <a:latin typeface="Optima"/>
                <a:ea typeface="Optima"/>
              </a:rPr>
              <a:t> </a:t>
            </a:r>
            <a:r>
              <a:rPr b="1" lang="en-US" sz="12000" spc="-1" strike="noStrike">
                <a:solidFill>
                  <a:srgbClr val="ffffff"/>
                </a:solidFill>
                <a:latin typeface="Optima"/>
                <a:ea typeface="Optima"/>
              </a:rPr>
              <a:t>OS  X  10.5</a:t>
            </a:r>
            <a:endParaRPr b="0" lang="en-US" sz="1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"/>
          <p:cNvSpPr/>
          <p:nvPr/>
        </p:nvSpPr>
        <p:spPr>
          <a:xfrm rot="21245400">
            <a:off x="1294920" y="3452760"/>
            <a:ext cx="10388880" cy="32259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0414080"/>
              </a:tabLst>
            </a:pPr>
            <a:r>
              <a:rPr b="0" lang="en-US" sz="16000" spc="-1" strike="noStrike">
                <a:solidFill>
                  <a:srgbClr val="d832c6"/>
                </a:solidFill>
                <a:latin typeface="Papyrus"/>
                <a:ea typeface="Papyrus"/>
              </a:rPr>
              <a:t>“</a:t>
            </a:r>
            <a:r>
              <a:rPr b="0" lang="en-US" sz="16000" spc="-1" strike="noStrike">
                <a:solidFill>
                  <a:srgbClr val="d832c6"/>
                </a:solidFill>
                <a:latin typeface="Papyrus"/>
                <a:ea typeface="Papyrus"/>
              </a:rPr>
              <a:t>Leopard”</a:t>
            </a:r>
            <a:endParaRPr b="0" lang="en-US" sz="1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55520" y="216000"/>
            <a:ext cx="909324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Bugs!!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60080" y="1333440"/>
            <a:ext cx="10464840" cy="5905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nlike previous releases, no final GM for developers 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:-(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 chance to test absolutely-final release in advan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fore... a few serious bug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otoshop CS3 text input fiel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crobat 8 iss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k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81280">
              <a:lnSpc>
                <a:spcPct val="100000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ickBook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 pretty-much fixed by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10.5.2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timefr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th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Adob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FileMaker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re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not supporting earlier version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of their apps on Leopard!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55520" y="2171520"/>
            <a:ext cx="9093240" cy="1409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d8"/>
                </a:solidFill>
                <a:latin typeface="Gill Sans"/>
              </a:rPr>
              <a:t>Questions ?</a:t>
            </a:r>
            <a:endParaRPr b="1" i="1" lang="en-US" sz="9600" spc="-1" strike="noStrike">
              <a:solidFill>
                <a:srgbClr val="ff00d8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Key Word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66720" y="1803240"/>
            <a:ext cx="5689800" cy="51818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ime Machin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tacks, Fans &amp; Grid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ick Look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pace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ore Anim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New Window Look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1815840"/>
            <a:ext cx="6058080" cy="3314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 more pinstri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100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 more brushed met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452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Just a single “smooth” loo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621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th unified toolba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70600" y="1511280"/>
            <a:ext cx="5905440" cy="4305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638360" y="5118120"/>
            <a:ext cx="9702720" cy="2108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216000"/>
            <a:ext cx="909324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Other Look Change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93680"/>
            <a:ext cx="5778360" cy="3314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folder ic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ranslucent menu ba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3D-looking Do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6832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with reflections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62920" y="162576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842400" y="1511280"/>
            <a:ext cx="1625760" cy="1625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46640" y="3822840"/>
            <a:ext cx="6350040" cy="8254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146640" y="3822840"/>
            <a:ext cx="6350040" cy="82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-101520" y="5700600"/>
            <a:ext cx="132062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146320" y="1714680"/>
            <a:ext cx="9207360" cy="4254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ickly access folder contents from the Do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good for commonly used fold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ans &amp; Grids replace Dock menu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full drag &amp; drop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igh coolness factor ;-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ome questionable HCI factors thoug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38280" y="1663560"/>
            <a:ext cx="8115480" cy="5080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438280" y="1663560"/>
            <a:ext cx="8115480" cy="5080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438280" y="1663560"/>
            <a:ext cx="8115480" cy="5080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09320" y="177840"/>
            <a:ext cx="909324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Stacks, Fans &amp; Grid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06440" y="254160"/>
            <a:ext cx="177804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Finder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08160" y="5359320"/>
            <a:ext cx="10312560" cy="19051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iTunes-sty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loo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Better threading...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better handling of networked disk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re icon previews, variable grid spacing, Cover F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70280" y="1457280"/>
            <a:ext cx="7226280" cy="4386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882880" y="1454040"/>
            <a:ext cx="721692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2760" y="34308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40160" y="1384200"/>
            <a:ext cx="790704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Quick Look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17640" y="562572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ast preview from within the Find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47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140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good for slow-to-launch application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130720" y="1714680"/>
            <a:ext cx="698760" cy="533160"/>
          </a:xfrm>
          <a:prstGeom prst="ellipse">
            <a:avLst/>
          </a:prstGeom>
          <a:noFill/>
          <a:ln w="38160">
            <a:solidFill>
              <a:srgbClr val="ff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390840" y="1650960"/>
            <a:ext cx="6205680" cy="4000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2760" y="216000"/>
            <a:ext cx="1625400" cy="16254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793600" y="1371240"/>
            <a:ext cx="9029880" cy="58294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Multiple virtual scree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much like multiple monit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797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but switched between in softwa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ood for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independent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ask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programming in one, web design in second,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57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video editing in third et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Can be confus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for us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3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not always a productivity w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5784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simply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iconify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s often bett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79760" indent="0">
              <a:lnSpc>
                <a:spcPct val="100000"/>
              </a:lnSpc>
              <a:buNone/>
              <a:tabLst>
                <a:tab algn="l" pos="0"/>
                <a:tab algn="l" pos="1211400"/>
                <a:tab algn="l" pos="1519200"/>
                <a:tab algn="l" pos="189540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.. or using </a:t>
            </a:r>
            <a:r>
              <a:rPr b="1" i="1" lang="en-US" sz="3200" spc="-1" strike="noStrike">
                <a:solidFill>
                  <a:srgbClr val="ffffff"/>
                </a:solidFill>
                <a:latin typeface="Gill Sans"/>
              </a:rPr>
              <a:t>Exposé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943280" y="190440"/>
            <a:ext cx="9092880" cy="14097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ff00d8"/>
                </a:solidFill>
                <a:latin typeface="Gill Sans"/>
              </a:rPr>
              <a:t>Spaces</a:t>
            </a:r>
            <a:endParaRPr b="1" i="1" lang="en-US" sz="6400" spc="-1" strike="noStrike">
              <a:solidFill>
                <a:srgbClr val="ff00d8"/>
              </a:solidFill>
              <a:latin typeface="Gill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819520" y="1658880"/>
            <a:ext cx="8369280" cy="5249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