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3.png" ContentType="image/png"/>
  <Override PartName="/ppt/media/image4.png" ContentType="image/png"/>
  <Override PartName="/ppt/media/image24.pct" ContentType="image/x-pict"/>
  <Override PartName="/ppt/media/image27.png" ContentType="image/png"/>
  <Override PartName="/ppt/media/image29.png" ContentType="image/png"/>
  <Override PartName="/ppt/media/image6.png" ContentType="image/png"/>
  <Override PartName="/ppt/media/image12.png" ContentType="image/png"/>
  <Override PartName="/ppt/media/image25.png" ContentType="image/png"/>
  <Override PartName="/ppt/media/image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1.pct" ContentType="image/x-pict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6.png" ContentType="image/png"/>
  <Override PartName="/ppt/media/image23.pct" ContentType="image/x-pi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13003213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mo basics, search window, thumbnails, quoted, within open/save dialog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mo Finder search, smart folders, realtime smart folder, Finder comment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 need to bring up web browser, find site, navigate through it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ervice” web sites could offer widgets as extra feature (think FedEx)... like RSS feeds for news site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mo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mo basics, bookmarks, snapback, tabs, PDF, RSS, play-nice, network diagnostic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mo RSS screen save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eaten with the ugly stick 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utton style is fixable via hack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mo basics, hide/show mailboxes, search, smart mailboxes, slide show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hing new you say?  URT, ImageMagik, JAI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mo (if possible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tional demo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tional demo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oodbye FinderSync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ctionary system-wide (almost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artz Extreme already accelerated compositing in window manage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 hardware acceleration for QuickDraw (deprecated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enabled in 10.4.0, perhaps 10.4.1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browser history or cache, or inside FileMaker database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Yet !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291600"/>
            <a:ext cx="117025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291600"/>
            <a:ext cx="117025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291600"/>
            <a:ext cx="117025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64008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336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548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724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1088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10880" indent="-408600">
              <a:spcBef>
                <a:spcPts val="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10880" indent="-408600">
              <a:spcBef>
                <a:spcPts val="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82680" y="1155600"/>
            <a:ext cx="10414080" cy="25783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10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82320" y="3772080"/>
            <a:ext cx="10401480" cy="28828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69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Click to edit the title text format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943280" y="1663560"/>
            <a:ext cx="909288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/>
          </a:bodyPr>
          <a:p>
            <a:pPr marL="652320" indent="-4492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0480" indent="-6372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6680" indent="-6336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781280" indent="-6372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187720" indent="-6372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187720" indent="-6372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187720" indent="-6372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Spotlight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717640" y="1663200"/>
            <a:ext cx="9118800" cy="5054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marL="654120" indent="-4176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lso appears in open/save dialog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54120" indent="-41760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arches can be saved as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“smart folders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54120" indent="-41760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 periodic indexing requir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indexes automatically at each sav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312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done via kernel hooks for open()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54120" indent="-41760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orks on all filesyste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not embedded in filesystem like BF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312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network server friendly (in theor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54120" indent="-41760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NIX commands also provided (mdls, mdfind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Dashboard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/>
            </a:outerShdw>
          </a:effectLst>
        </p:spPr>
      </p:pic>
      <p:sp>
        <p:nvSpPr>
          <p:cNvPr id="148" name=""/>
          <p:cNvSpPr/>
          <p:nvPr/>
        </p:nvSpPr>
        <p:spPr>
          <a:xfrm>
            <a:off x="5379480" y="1270080"/>
            <a:ext cx="5686560" cy="1189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baseline="-8000">
                <a:solidFill>
                  <a:srgbClr val="ffffff"/>
                </a:solidFill>
                <a:latin typeface="Gill Sans"/>
                <a:ea typeface="Gill Sans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How often do you look up..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"/>
          <p:cNvSpPr/>
          <p:nvPr/>
        </p:nvSpPr>
        <p:spPr>
          <a:xfrm>
            <a:off x="6365160" y="2019240"/>
            <a:ext cx="306252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phone numb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"/>
          <p:cNvSpPr/>
          <p:nvPr/>
        </p:nvSpPr>
        <p:spPr>
          <a:xfrm>
            <a:off x="6364080" y="2438280"/>
            <a:ext cx="362772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weather predic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"/>
          <p:cNvSpPr/>
          <p:nvPr/>
        </p:nvSpPr>
        <p:spPr>
          <a:xfrm>
            <a:off x="6167880" y="2870280"/>
            <a:ext cx="594288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share prices, exchange rate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52" name="Mac OS X 10.4.ppt_media/Dashboard Gfx-2.mov" descr=""/>
          <p:cNvPicPr/>
          <p:nvPr/>
        </p:nvPicPr>
        <p:blipFill>
          <a:blip r:embed="rId3"/>
          <a:stretch/>
        </p:blipFill>
        <p:spPr>
          <a:xfrm>
            <a:off x="1295280" y="2768760"/>
            <a:ext cx="406404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10080" y="3708360"/>
            <a:ext cx="6553440" cy="3137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660960" indent="-422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w just one click awa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Like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Konfabulat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but uses HTML &amp; JavaScrip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452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really mini web pag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it or gimmick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chin"/>
                <a:ea typeface="Cochi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Safari RSS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209680" y="1536840"/>
            <a:ext cx="9792000" cy="15238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85000"/>
              </a:srgbClr>
            </a:outerShdw>
          </a:effectLst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45880" y="3161880"/>
            <a:ext cx="9093240" cy="3784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660960" indent="-422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ven faster (was already fastest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reat standards compliance (acid test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archable bookmarks &amp; histor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ave web archiv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SS &amp; PDF viewers built-i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lays nice when in background (Flash etc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... now definitely the best brows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Preview 3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311560" y="1536840"/>
            <a:ext cx="10032840" cy="17524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704680" y="3377880"/>
            <a:ext cx="9093240" cy="3784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/>
          </a:bodyPr>
          <a:p>
            <a:pPr marL="703440" indent="-449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DF 1.5,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JPEG-2000, search, comment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w a viable alternative to Acrobat Read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better AA, faster (esp. with Q2D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rowser-style bookmarks - yay!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t a match for Acrobat Pr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larger files, limited editing/comment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Mail 2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075" dir="4082852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226280" y="1359000"/>
            <a:ext cx="5289480" cy="5753160"/>
          </a:xfrm>
          <a:prstGeom prst="rect">
            <a:avLst/>
          </a:prstGeom>
          <a:ln w="0">
            <a:noFill/>
          </a:ln>
          <a:effectLst>
            <a:outerShdw dist="76164" dir="2573584" blurRad="0" rotWithShape="0">
              <a:srgbClr val="000000">
                <a:alpha val="75000"/>
              </a:srgbClr>
            </a:outerShdw>
          </a:effectLst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6520" y="1841040"/>
            <a:ext cx="6527880" cy="5156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87000"/>
          </a:bodyPr>
          <a:p>
            <a:pPr marL="611640" indent="-3906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w layout (no drawer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11640" indent="-3906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What’s with the buttons</a:t>
            </a:r>
            <a:r>
              <a:rPr b="1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Cochin"/>
                <a:ea typeface="Cochi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244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inconsistent with syste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5164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nd other windows in Mai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11640" indent="-3906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potlight-enhanced searc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244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nd smart mailbox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11640" indent="-3906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lide show directly from Mai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11640" indent="-3906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ow message size before send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244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nd resize images in Mai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iChat 3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2760" y="190440"/>
            <a:ext cx="1625400" cy="1625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896160" y="1879560"/>
            <a:ext cx="2565360" cy="2451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9639360" y="1879560"/>
            <a:ext cx="2565360" cy="2451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454880" y="4775040"/>
            <a:ext cx="4318200" cy="1308240"/>
          </a:xfrm>
          <a:prstGeom prst="rect">
            <a:avLst/>
          </a:prstGeom>
          <a:ln w="0">
            <a:noFill/>
          </a:ln>
          <a:effectLst>
            <a:outerShdw dist="76164" dir="2573584" blurRad="0" rotWithShape="0">
              <a:srgbClr val="000000">
                <a:alpha val="75000"/>
              </a:srgbClr>
            </a:outerShdw>
          </a:effectLst>
        </p:spPr>
      </p:pic>
      <p:sp>
        <p:nvSpPr>
          <p:cNvPr id="171" name=""/>
          <p:cNvSpPr/>
          <p:nvPr/>
        </p:nvSpPr>
        <p:spPr>
          <a:xfrm>
            <a:off x="1195920" y="2133720"/>
            <a:ext cx="5455080" cy="1189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baseline="-8000">
                <a:solidFill>
                  <a:srgbClr val="ffffff"/>
                </a:solidFill>
                <a:latin typeface="Gill Sans"/>
                <a:ea typeface="Gill Sans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H.264 video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(better qualit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"/>
          <p:cNvSpPr/>
          <p:nvPr/>
        </p:nvSpPr>
        <p:spPr>
          <a:xfrm>
            <a:off x="885960" y="3073320"/>
            <a:ext cx="6075360" cy="1189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baseline="-8000">
                <a:solidFill>
                  <a:srgbClr val="ffffff"/>
                </a:solidFill>
                <a:latin typeface="Gill Sans"/>
                <a:ea typeface="Gill Sans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Multi-person video/audio ch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"/>
          <p:cNvSpPr/>
          <p:nvPr/>
        </p:nvSpPr>
        <p:spPr>
          <a:xfrm>
            <a:off x="1759680" y="3784680"/>
            <a:ext cx="428940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... with 3D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“room”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loo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"/>
          <p:cNvSpPr/>
          <p:nvPr/>
        </p:nvSpPr>
        <p:spPr>
          <a:xfrm>
            <a:off x="1051560" y="4406760"/>
            <a:ext cx="3699360" cy="1189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baseline="-8000">
                <a:solidFill>
                  <a:srgbClr val="ffffff"/>
                </a:solidFill>
                <a:latin typeface="Gill Sans"/>
                <a:ea typeface="Gill Sans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Multiple accoun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1092960" y="5359320"/>
            <a:ext cx="3171960" cy="1189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baseline="-8000">
                <a:solidFill>
                  <a:srgbClr val="ffffff"/>
                </a:solidFill>
                <a:latin typeface="Gill Sans"/>
                <a:ea typeface="Gill Sans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Jabber suppo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"/>
          <p:cNvSpPr/>
          <p:nvPr/>
        </p:nvSpPr>
        <p:spPr>
          <a:xfrm>
            <a:off x="1565640" y="6070680"/>
            <a:ext cx="464148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... still no MSN or Yahoo!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68480" y="190440"/>
            <a:ext cx="63244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QuickTime 7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79" name="Mac OS X 10.4.ppt_media/QuickTime7 MPEG4-2.mov" descr=""/>
          <p:cNvPicPr/>
          <p:nvPr/>
        </p:nvPicPr>
        <p:blipFill>
          <a:blip r:embed="rId3"/>
          <a:stretch/>
        </p:blipFill>
        <p:spPr>
          <a:xfrm>
            <a:off x="8344080" y="71136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180" name="Mac OS X 10.4.ppt_media/QuickTime7 H264-2.mov" descr=""/>
          <p:cNvPicPr/>
          <p:nvPr/>
        </p:nvPicPr>
        <p:blipFill>
          <a:blip r:embed="rId4"/>
          <a:stretch/>
        </p:blipFill>
        <p:spPr>
          <a:xfrm>
            <a:off x="8344080" y="3936960"/>
            <a:ext cx="4063680" cy="30481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86960" y="1803240"/>
            <a:ext cx="7480440" cy="5207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660960" indent="-422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Record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in QuickTime Play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for quick capture from webca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A/V control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in QuickTime Play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color, contrast etc (Core Image req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H.264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(aka:</a:t>
            </a:r>
            <a:r>
              <a:rPr b="0" lang="en-US" sz="1300" spc="-1" strike="noStrike">
                <a:solidFill>
                  <a:srgbClr val="ffffff"/>
                </a:solidFill>
                <a:latin typeface="Gill San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VC, MPEG-4 Par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0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better quality @ same bitrat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4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best codec for web vide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62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high-definition at DVD r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Core Image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/>
            </a:outerShdw>
          </a:effectLst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40160" y="1663560"/>
            <a:ext cx="909288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marL="654120" indent="-4176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nk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“Photoshop as a library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layers, filters, cropping, scaling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312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hat OpenGL is to 3D graphic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54120" indent="-41760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ardware accelerated on recent graphics card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compiles filter(s) down into pixel shad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31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many effects are realtime !!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54120" indent="-41760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ould enable great new app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QuickTime + Core Image = Mo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31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ell, almost :-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For Developers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/>
            </a:outerShdw>
          </a:effectLst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66800" y="1663560"/>
            <a:ext cx="9093240" cy="53467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660960" indent="-422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nhanced SearchKit &amp; WebK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to go with Spotlight &amp; Safari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uickTime now Cocoa-friendl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w file typing system (UTI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better than .ext or creator cod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452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not visible to end-us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able kernel interface - yay!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nitial support for resolution independenc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Automator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26840" y="1663560"/>
            <a:ext cx="909324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660960" indent="-422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Drag &amp; drop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pproach to script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GUI equivalent of UNIX pi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4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ctions based on AppleScrip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Very simple, limited capabilities (high level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ctions only go together in specific way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very easy to understa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hopefully easy enough for end-us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4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you don’t need to know how to progra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2680" y="1155600"/>
            <a:ext cx="10414080" cy="25783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  <a:ea typeface="Impact"/>
              </a:rPr>
              <a:t>Mac OS  X  10.4</a:t>
            </a:r>
            <a:endParaRPr b="0" lang="en-US" sz="1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3454560"/>
            <a:ext cx="10388880" cy="32256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0414080"/>
              </a:tabLst>
            </a:pPr>
            <a:r>
              <a:rPr b="0" lang="en-US" sz="16000" spc="-1" strike="noStrike">
                <a:solidFill>
                  <a:srgbClr val="ffeb00"/>
                </a:solidFill>
                <a:latin typeface="Papyrus"/>
                <a:ea typeface="Papyrus"/>
              </a:rPr>
              <a:t>“</a:t>
            </a:r>
            <a:r>
              <a:rPr b="0" lang="en-US" sz="16000" spc="-1" strike="noStrike">
                <a:solidFill>
                  <a:srgbClr val="ffeb00"/>
                </a:solidFill>
                <a:latin typeface="Papyrus"/>
                <a:ea typeface="Papyrus"/>
              </a:rPr>
              <a:t>Tiger”</a:t>
            </a:r>
            <a:endParaRPr b="0" lang="en-US" sz="16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VoiceOver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26840" y="1663560"/>
            <a:ext cx="909324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696240" indent="-4446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Screen reader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&amp; control softwa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6240" indent="-44460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ads page content, buttons, menus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6240" indent="-44460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Keyboard commands move “cursor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38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lots of different keyboard command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107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semi-intelligent navig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6240" indent="-44460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ood way to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test web page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for accessibili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6240" indent="-44460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elp has good tutorial to get star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Miscellaneous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06440" y="254160"/>
            <a:ext cx="1778040" cy="1803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52400" y="1663200"/>
            <a:ext cx="9093240" cy="5308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2000"/>
          </a:bodyPr>
          <a:p>
            <a:pPr marL="646920" indent="-413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light cosmetic changes (eg: menu bar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46920" indent="-4132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nder sees changes instantl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192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but still not time-stamp changes</a:t>
            </a: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46920" indent="-4132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urn CD/DVD without preparing disc imag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46920" indent="-4132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creen captures now P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46920" indent="-4132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ave sent fax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46920" indent="-4132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ctionary/thesaurus, graphing calculat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46920" indent="-4132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elp Viewer accesses online knowledge-bas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46920" indent="-4132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arental control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692440" y="927000"/>
            <a:ext cx="7620120" cy="57150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06440" y="254160"/>
            <a:ext cx="1778040" cy="1803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3280" y="158760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Questions ?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Key Words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54120" y="1663560"/>
            <a:ext cx="568980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248760"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potligh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2487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Dashboard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2487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H.264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2487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Quartz 2D Extreme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2487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ore Image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Performance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2760" y="101520"/>
            <a:ext cx="1625400" cy="1625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1640" y="1663560"/>
            <a:ext cx="909324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/>
          </a:bodyPr>
          <a:p>
            <a:pPr marL="703440" indent="-449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piled by GCC 4.0 (better code optimization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ne-grained locking in kern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readed image decod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inary format for plis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re Quartz/Aqua performance tun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Quartz 2D Extreme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2760" y="203040"/>
            <a:ext cx="1625400" cy="1625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3280" y="1663200"/>
            <a:ext cx="9092880" cy="2806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marL="668160" indent="-4266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ardware acceleration for Quartz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draw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on recent graphics cards (uses pixel shader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8160" indent="-42660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lso frees up RAM used for window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indows stay in VRAM (mostl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692360" y="3987720"/>
            <a:ext cx="11174400" cy="30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Security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7760" y="1663200"/>
            <a:ext cx="9093240" cy="513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696240" indent="-4446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ccess control lists (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acl’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38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only turned on for servers (by default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6240" indent="-44460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mart card login suppo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6240" indent="-44460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rewall “stealth” mod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38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on’t even respond to ping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6240" indent="-44460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Encrypted swap spac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38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closes biggest remaining security ho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107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critical for laptops that use FileVaul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UNIX Foundation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22560" y="1663560"/>
            <a:ext cx="910584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/>
          </a:bodyPr>
          <a:p>
            <a:pPr marL="703440" indent="-449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64-bit suppo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llows &gt; 4 GB RA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24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command line apps onl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768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important for databases, HP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ded file attributes (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xattr’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generic filesystem-level meta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NIX commands now resource fork awa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cp, mv, rsync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Spotlight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568680" y="1790640"/>
            <a:ext cx="5842080" cy="13716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568680" y="1790640"/>
            <a:ext cx="5842080" cy="1371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432640" y="1397160"/>
            <a:ext cx="1270080" cy="1153800"/>
          </a:xfrm>
          <a:prstGeom prst="pie">
            <a:avLst/>
          </a:prstGeom>
          <a:noFill/>
          <a:ln w="38160">
            <a:solidFill>
              <a:srgbClr val="ff06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55800" y="3390480"/>
            <a:ext cx="9105840" cy="3606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/>
          </a:bodyPr>
          <a:p>
            <a:pPr marL="703440" indent="-449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ystem-wide search from menu ba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lso used in Finder, Mail, many oth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sed on combination of techn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Sherlock find-by-cont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24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plus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BeOS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lesystem idea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768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(Apple hired ex-Be developer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eb00"/>
                </a:solidFill>
                <a:latin typeface="Lucida Grande"/>
              </a:rPr>
              <a:t>Spotlight</a:t>
            </a:r>
            <a:endParaRPr b="0" lang="en-US" sz="6400" spc="-1" strike="noStrike">
              <a:solidFill>
                <a:srgbClr val="ffeb00"/>
              </a:solidFill>
              <a:latin typeface="Lucida Grande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42920" y="1663560"/>
            <a:ext cx="982980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0000"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arches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257120" indent="-404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8254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lenam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257120" indent="-404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8254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le date, size, kind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257120" indent="-404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8254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le contents (most file types*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257120" indent="-404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8254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keywords, author, description &amp; other “metadata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257120" indent="-404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8254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ded file attributes (xattr’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257120" indent="-404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8254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mail messag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257120" indent="-404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8254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eb bookmark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257120" indent="-404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8254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ddress book, calendar, chat logs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257120" indent="-4042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8254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can be extended by app develop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