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2.png" ContentType="image/png"/>
  <Override PartName="/ppt/media/image20.jpeg" ContentType="image/jpeg"/>
  <Override PartName="/ppt/media/image11.png" ContentType="image/png"/>
  <Override PartName="/ppt/media/image9.pct" ContentType="image/x-pict"/>
  <Override PartName="/ppt/media/image8.pct" ContentType="image/x-pict"/>
  <Override PartName="/ppt/media/image10.png" ContentType="image/png"/>
  <Override PartName="/ppt/media/image7.pct" ContentType="image/x-pict"/>
  <Override PartName="/ppt/media/image6.pct" ContentType="image/x-pict"/>
  <Override PartName="/ppt/media/image22.jpeg" ContentType="image/jpeg"/>
  <Override PartName="/ppt/media/image14.png" ContentType="image/png"/>
  <Override PartName="/ppt/media/image21.pct" ContentType="image/x-pict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13003213" cy="73152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ffffff"/>
                </a:solidFill>
                <a:latin typeface="Gill Sans"/>
              </a:rPr>
              <a:t>Click to move the slide</a:t>
            </a: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Bit rot can still corrupt filesystem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But by far the biggest cosmetic change is...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Gear/contextual menu has labels (goodbye LabelsX)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Open/save dialogs have sidebar, back/forward buttons &amp; list view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Go on a surfing safari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50160" y="291600"/>
            <a:ext cx="1170252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50160" y="1711440"/>
            <a:ext cx="117025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50160" y="3927240"/>
            <a:ext cx="117025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0160" y="291600"/>
            <a:ext cx="1170252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0160" y="1711440"/>
            <a:ext cx="5710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46680" y="1711440"/>
            <a:ext cx="5710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50160" y="3927240"/>
            <a:ext cx="5710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46680" y="3927240"/>
            <a:ext cx="5710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50160" y="291600"/>
            <a:ext cx="1170252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50160" y="1711440"/>
            <a:ext cx="37681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06920" y="1711440"/>
            <a:ext cx="37681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564040" y="1711440"/>
            <a:ext cx="37681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50160" y="3927240"/>
            <a:ext cx="37681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606920" y="3927240"/>
            <a:ext cx="37681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564040" y="3927240"/>
            <a:ext cx="37681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50160" y="291600"/>
            <a:ext cx="1170252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50160" y="1711440"/>
            <a:ext cx="1170252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50160" y="291600"/>
            <a:ext cx="1170252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50160" y="1711440"/>
            <a:ext cx="1170252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50160" y="291600"/>
            <a:ext cx="1170252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50160" y="1711440"/>
            <a:ext cx="571068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646680" y="1711440"/>
            <a:ext cx="571068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50160" y="291600"/>
            <a:ext cx="1170252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50160" y="291600"/>
            <a:ext cx="11702520" cy="56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50160" y="291600"/>
            <a:ext cx="1170252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50160" y="1711440"/>
            <a:ext cx="5710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46680" y="1711440"/>
            <a:ext cx="571068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50160" y="3927240"/>
            <a:ext cx="5710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50160" y="291600"/>
            <a:ext cx="1170252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50160" y="1711440"/>
            <a:ext cx="1170252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50160" y="291600"/>
            <a:ext cx="1170252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50160" y="1711440"/>
            <a:ext cx="571068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646680" y="1711440"/>
            <a:ext cx="5710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646680" y="3927240"/>
            <a:ext cx="5710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50160" y="291600"/>
            <a:ext cx="1170252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50160" y="1711440"/>
            <a:ext cx="5710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646680" y="1711440"/>
            <a:ext cx="5710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50160" y="3927240"/>
            <a:ext cx="117025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50160" y="291600"/>
            <a:ext cx="1170252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50160" y="1711440"/>
            <a:ext cx="117025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50160" y="3927240"/>
            <a:ext cx="117025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50160" y="291600"/>
            <a:ext cx="1170252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50160" y="1711440"/>
            <a:ext cx="5710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646680" y="1711440"/>
            <a:ext cx="5710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0160" y="3927240"/>
            <a:ext cx="5710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6646680" y="3927240"/>
            <a:ext cx="5710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50160" y="291600"/>
            <a:ext cx="1170252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50160" y="1711440"/>
            <a:ext cx="37681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06920" y="1711440"/>
            <a:ext cx="37681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564040" y="1711440"/>
            <a:ext cx="37681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50160" y="3927240"/>
            <a:ext cx="37681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4606920" y="3927240"/>
            <a:ext cx="37681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8564040" y="3927240"/>
            <a:ext cx="37681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50160" y="291600"/>
            <a:ext cx="1170252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650160" y="1711440"/>
            <a:ext cx="1170252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50160" y="291600"/>
            <a:ext cx="1170252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50160" y="1711440"/>
            <a:ext cx="1170252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50160" y="291600"/>
            <a:ext cx="1170252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50160" y="1711440"/>
            <a:ext cx="571068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646680" y="1711440"/>
            <a:ext cx="571068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50160" y="291600"/>
            <a:ext cx="1170252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50160" y="291600"/>
            <a:ext cx="1170252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50160" y="1711440"/>
            <a:ext cx="1170252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650160" y="291600"/>
            <a:ext cx="11702520" cy="56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50160" y="291600"/>
            <a:ext cx="1170252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50160" y="1711440"/>
            <a:ext cx="5710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646680" y="1711440"/>
            <a:ext cx="571068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50160" y="3927240"/>
            <a:ext cx="5710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50160" y="291600"/>
            <a:ext cx="1170252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50160" y="1711440"/>
            <a:ext cx="571068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646680" y="1711440"/>
            <a:ext cx="5710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646680" y="3927240"/>
            <a:ext cx="5710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50160" y="291600"/>
            <a:ext cx="1170252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50160" y="1711440"/>
            <a:ext cx="5710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6646680" y="1711440"/>
            <a:ext cx="5710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50160" y="3927240"/>
            <a:ext cx="117025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50160" y="291600"/>
            <a:ext cx="1170252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50160" y="1711440"/>
            <a:ext cx="117025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650160" y="3927240"/>
            <a:ext cx="117025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50160" y="291600"/>
            <a:ext cx="1170252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50160" y="1711440"/>
            <a:ext cx="5710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646680" y="1711440"/>
            <a:ext cx="5710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50160" y="3927240"/>
            <a:ext cx="5710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646680" y="3927240"/>
            <a:ext cx="5710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50160" y="291600"/>
            <a:ext cx="1170252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50160" y="1711440"/>
            <a:ext cx="37681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06920" y="1711440"/>
            <a:ext cx="37681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8564040" y="1711440"/>
            <a:ext cx="37681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650160" y="3927240"/>
            <a:ext cx="37681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606920" y="3927240"/>
            <a:ext cx="37681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8564040" y="3927240"/>
            <a:ext cx="37681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50160" y="291600"/>
            <a:ext cx="1170252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50160" y="1711440"/>
            <a:ext cx="571068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46680" y="1711440"/>
            <a:ext cx="571068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0160" y="291600"/>
            <a:ext cx="1170252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50160" y="291600"/>
            <a:ext cx="11702520" cy="56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50160" y="291600"/>
            <a:ext cx="1170252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50160" y="1711440"/>
            <a:ext cx="5710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46680" y="1711440"/>
            <a:ext cx="571068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50160" y="3927240"/>
            <a:ext cx="5710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50160" y="291600"/>
            <a:ext cx="1170252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50160" y="1711440"/>
            <a:ext cx="571068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46680" y="1711440"/>
            <a:ext cx="5710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46680" y="3927240"/>
            <a:ext cx="5710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50160" y="291600"/>
            <a:ext cx="1170252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50160" y="1711440"/>
            <a:ext cx="5710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46680" y="1711440"/>
            <a:ext cx="5710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50160" y="3927240"/>
            <a:ext cx="117025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50160" y="291600"/>
            <a:ext cx="1170252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50160" y="1711440"/>
            <a:ext cx="1170252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marL="640080" indent="-408600">
              <a:spcBef>
                <a:spcPts val="20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963360" indent="-408600">
              <a:spcBef>
                <a:spcPts val="20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2" marL="1275480" indent="-408600">
              <a:spcBef>
                <a:spcPts val="20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3" marL="1587240" indent="-408600">
              <a:spcBef>
                <a:spcPts val="20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4" marL="1910880" indent="-408600">
              <a:spcBef>
                <a:spcPts val="20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5" marL="1910880" indent="-408600">
              <a:spcBef>
                <a:spcPts val="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6" marL="1910880" indent="-408600">
              <a:spcBef>
                <a:spcPts val="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82680" y="1155600"/>
            <a:ext cx="10414080" cy="2578320"/>
          </a:xfrm>
          <a:prstGeom prst="rect">
            <a:avLst/>
          </a:prstGeom>
          <a:noFill/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  <p:txBody>
          <a:bodyPr lIns="0" rIns="0" tIns="0" bIns="0" anchor="b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ffffff"/>
                </a:solidFill>
                <a:latin typeface="Futura"/>
              </a:rPr>
              <a:t>Click to edit the title text format</a:t>
            </a:r>
            <a:endParaRPr b="0" lang="en-US" sz="10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282320" y="3772080"/>
            <a:ext cx="10401480" cy="2882880"/>
          </a:xfrm>
          <a:prstGeom prst="rect">
            <a:avLst/>
          </a:prstGeom>
          <a:noFill/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  <p:txBody>
          <a:bodyPr lIns="50760" rIns="50760" tIns="50760" bIns="50760" anchor="t">
            <a:normAutofit fontScale="69000"/>
          </a:bodyPr>
          <a:p>
            <a:pPr indent="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1" algn="ctr">
              <a:spcBef>
                <a:spcPts val="201"/>
              </a:spcBef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2" algn="ctr">
              <a:spcBef>
                <a:spcPts val="201"/>
              </a:spcBef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3" algn="ctr">
              <a:spcBef>
                <a:spcPts val="201"/>
              </a:spcBef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4" algn="ctr">
              <a:spcBef>
                <a:spcPts val="201"/>
              </a:spcBef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5" algn="ctr">
              <a:spcBef>
                <a:spcPts val="201"/>
              </a:spcBef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6" algn="ctr">
              <a:spcBef>
                <a:spcPts val="201"/>
              </a:spcBef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3280" y="190440"/>
            <a:ext cx="9092880" cy="1409760"/>
          </a:xfrm>
          <a:prstGeom prst="rect">
            <a:avLst/>
          </a:prstGeom>
          <a:noFill/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ffd400"/>
                </a:solidFill>
                <a:latin typeface="Lucida Grande"/>
              </a:rPr>
              <a:t>Click to edit the title text format</a:t>
            </a:r>
            <a:endParaRPr b="0" lang="en-US" sz="6400" spc="-1" strike="noStrike">
              <a:solidFill>
                <a:srgbClr val="ffd400"/>
              </a:solidFill>
              <a:latin typeface="Lucida Grande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1943280" y="1663560"/>
            <a:ext cx="9092880" cy="5181840"/>
          </a:xfrm>
          <a:prstGeom prst="rect">
            <a:avLst/>
          </a:prstGeom>
          <a:noFill/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  <p:txBody>
          <a:bodyPr lIns="50760" rIns="50760" tIns="50760" bIns="50760" anchor="ctr">
            <a:normAutofit/>
          </a:bodyPr>
          <a:p>
            <a:pPr marL="652320" indent="-449280">
              <a:spcBef>
                <a:spcPts val="20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960480" indent="-63720">
              <a:spcBef>
                <a:spcPts val="20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2" marL="1336680" indent="-63360">
              <a:spcBef>
                <a:spcPts val="20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3" marL="1781280" indent="-63720">
              <a:spcBef>
                <a:spcPts val="20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4" marL="2187720" indent="-63720">
              <a:spcBef>
                <a:spcPts val="20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5" marL="2187720" indent="-63720">
              <a:spcBef>
                <a:spcPts val="20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6" marL="2187720" indent="-63720">
              <a:spcBef>
                <a:spcPts val="20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image" Target="../media/image21.pct"/><Relationship Id="rId5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7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ct"/><Relationship Id="rId4" Type="http://schemas.openxmlformats.org/officeDocument/2006/relationships/image" Target="../media/image7.pct"/><Relationship Id="rId5" Type="http://schemas.openxmlformats.org/officeDocument/2006/relationships/image" Target="../media/image8.pct"/><Relationship Id="rId6" Type="http://schemas.openxmlformats.org/officeDocument/2006/relationships/image" Target="../media/image9.pct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27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27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27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943280" y="190440"/>
            <a:ext cx="9092880" cy="1409760"/>
          </a:xfrm>
          <a:prstGeom prst="rect">
            <a:avLst/>
          </a:prstGeom>
          <a:noFill/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ffd400"/>
                </a:solidFill>
                <a:latin typeface="Lucida Grande"/>
              </a:rPr>
              <a:t>iChat AV</a:t>
            </a:r>
            <a:endParaRPr b="0" lang="en-US" sz="6400" spc="-1" strike="noStrike">
              <a:solidFill>
                <a:srgbClr val="ffd400"/>
              </a:solidFill>
              <a:latin typeface="Lucida Grande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3035160" y="2006640"/>
            <a:ext cx="2210040" cy="2209680"/>
          </a:xfrm>
          <a:prstGeom prst="rect">
            <a:avLst/>
          </a:prstGeom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</p:pic>
      <p:pic>
        <p:nvPicPr>
          <p:cNvPr id="157" name="" descr=""/>
          <p:cNvPicPr/>
          <p:nvPr/>
        </p:nvPicPr>
        <p:blipFill>
          <a:blip r:embed="rId3"/>
          <a:stretch/>
        </p:blipFill>
        <p:spPr>
          <a:xfrm>
            <a:off x="482760" y="343080"/>
            <a:ext cx="1625400" cy="1625400"/>
          </a:xfrm>
          <a:prstGeom prst="rect">
            <a:avLst/>
          </a:prstGeom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</p:pic>
      <p:pic>
        <p:nvPicPr>
          <p:cNvPr id="158" name="" descr=""/>
          <p:cNvPicPr/>
          <p:nvPr/>
        </p:nvPicPr>
        <p:blipFill>
          <a:blip r:embed="rId4"/>
          <a:stretch/>
        </p:blipFill>
        <p:spPr>
          <a:xfrm>
            <a:off x="6222960" y="1612800"/>
            <a:ext cx="3556080" cy="3454560"/>
          </a:xfrm>
          <a:prstGeom prst="rect">
            <a:avLst/>
          </a:prstGeom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</p:pic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704680" y="5054760"/>
            <a:ext cx="9093240" cy="2031840"/>
          </a:xfrm>
          <a:prstGeom prst="rect">
            <a:avLst/>
          </a:prstGeom>
          <a:noFill/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  <p:txBody>
          <a:bodyPr lIns="50760" rIns="50760" tIns="50760" bIns="50760" anchor="ctr">
            <a:normAutofit/>
          </a:bodyPr>
          <a:p>
            <a:pPr marL="703440" indent="-449280">
              <a:lnSpc>
                <a:spcPct val="100000"/>
              </a:lnSpc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211400"/>
                <a:tab algn="l" pos="151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Video &amp; audio conferencing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9478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211400"/>
                <a:tab algn="l" pos="151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... icon in Buddy List shows capabilities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marL="703440" indent="-449280">
              <a:lnSpc>
                <a:spcPct val="100000"/>
              </a:lnSpc>
              <a:spcBef>
                <a:spcPts val="22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211400"/>
                <a:tab algn="l" pos="151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ome firewall issues still to work ou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943280" y="190440"/>
            <a:ext cx="9092880" cy="1409760"/>
          </a:xfrm>
          <a:prstGeom prst="rect">
            <a:avLst/>
          </a:prstGeom>
          <a:noFill/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ffd400"/>
                </a:solidFill>
                <a:latin typeface="Lucida Grande"/>
              </a:rPr>
              <a:t>Exposé</a:t>
            </a:r>
            <a:endParaRPr b="0" lang="en-US" sz="6400" spc="-1" strike="noStrike">
              <a:solidFill>
                <a:srgbClr val="ffd400"/>
              </a:solidFill>
              <a:latin typeface="Lucida Grande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647640" y="457200"/>
            <a:ext cx="1270080" cy="888840"/>
          </a:xfrm>
          <a:prstGeom prst="rect">
            <a:avLst/>
          </a:prstGeom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</p:pic>
      <p:pic>
        <p:nvPicPr>
          <p:cNvPr id="162" name="" descr=""/>
          <p:cNvPicPr/>
          <p:nvPr/>
        </p:nvPicPr>
        <p:blipFill>
          <a:blip r:embed="rId3"/>
          <a:stretch/>
        </p:blipFill>
        <p:spPr>
          <a:xfrm>
            <a:off x="5524560" y="1663560"/>
            <a:ext cx="6502320" cy="4876920"/>
          </a:xfrm>
          <a:prstGeom prst="rect">
            <a:avLst/>
          </a:prstGeom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</p:pic>
      <p:pic>
        <p:nvPicPr>
          <p:cNvPr id="163" name="Mac OS X 10.3.ppt_media/Expose-1.mov" descr=""/>
          <p:cNvPicPr/>
          <p:nvPr/>
        </p:nvPicPr>
        <p:blipFill>
          <a:blip r:embed="rId4"/>
          <a:stretch/>
        </p:blipFill>
        <p:spPr>
          <a:xfrm>
            <a:off x="5524560" y="1663560"/>
            <a:ext cx="6502320" cy="487692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723960" y="1663560"/>
            <a:ext cx="4711680" cy="5143680"/>
          </a:xfrm>
          <a:prstGeom prst="rect">
            <a:avLst/>
          </a:prstGeom>
          <a:noFill/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  <p:txBody>
          <a:bodyPr lIns="50760" rIns="50760" tIns="50760" bIns="50760" anchor="ctr">
            <a:normAutofit fontScale="93000"/>
          </a:bodyPr>
          <a:p>
            <a:pPr marL="654120" indent="-417600">
              <a:lnSpc>
                <a:spcPct val="94000"/>
              </a:lnSpc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211400"/>
                <a:tab algn="l" pos="151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lick mouse to corner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881280" indent="0">
              <a:lnSpc>
                <a:spcPct val="94000"/>
              </a:lnSpc>
              <a:buNone/>
              <a:tabLst>
                <a:tab algn="l" pos="0"/>
                <a:tab algn="l" pos="1211400"/>
                <a:tab algn="l" pos="151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hen select window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8812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1211400"/>
                <a:tab algn="l" pos="151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ill Sans"/>
              </a:rPr>
              <a:t>... </a:t>
            </a:r>
            <a:r>
              <a:rPr b="1" i="1" lang="en-US" sz="3200" spc="-1" strike="noStrike">
                <a:solidFill>
                  <a:srgbClr val="ffffff"/>
                </a:solidFill>
                <a:latin typeface="Gill Sans"/>
              </a:rPr>
              <a:t>big time saver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marL="654120" indent="-417600">
              <a:lnSpc>
                <a:spcPct val="100000"/>
              </a:lnSpc>
              <a:spcBef>
                <a:spcPts val="32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211400"/>
                <a:tab algn="l" pos="151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an also activate by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8812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211400"/>
                <a:tab algn="l" pos="151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9/F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0/F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1</a:t>
            </a: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 keys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marL="654120" indent="-417600">
              <a:lnSpc>
                <a:spcPct val="100000"/>
              </a:lnSpc>
              <a:spcBef>
                <a:spcPts val="32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211400"/>
                <a:tab algn="l" pos="151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Also reveal desktop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marL="654120" indent="-417600">
              <a:lnSpc>
                <a:spcPct val="100000"/>
              </a:lnSpc>
              <a:spcBef>
                <a:spcPts val="32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211400"/>
                <a:tab algn="l" pos="151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upports drag &amp; drop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5" name=""/>
          <p:cNvSpPr/>
          <p:nvPr/>
        </p:nvSpPr>
        <p:spPr>
          <a:xfrm>
            <a:off x="6561720" y="6730920"/>
            <a:ext cx="4388400" cy="213480"/>
          </a:xfrm>
          <a:prstGeom prst="rect">
            <a:avLst/>
          </a:prstGeom>
          <a:noFill/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ill Sans"/>
                <a:ea typeface="Gill Sans"/>
              </a:rPr>
              <a:t>Image/animation courtesy of the SnapzProX website</a:t>
            </a:r>
            <a:endParaRPr b="0" lang="en-US" sz="1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943280" y="190440"/>
            <a:ext cx="9092880" cy="1409760"/>
          </a:xfrm>
          <a:prstGeom prst="rect">
            <a:avLst/>
          </a:prstGeom>
          <a:noFill/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ffd400"/>
                </a:solidFill>
                <a:latin typeface="Lucida Grande"/>
              </a:rPr>
              <a:t>Miscellaneous</a:t>
            </a:r>
            <a:endParaRPr b="0" lang="en-US" sz="6400" spc="-1" strike="noStrike">
              <a:solidFill>
                <a:srgbClr val="ffd400"/>
              </a:solidFill>
              <a:latin typeface="Lucida Grande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406440" y="254160"/>
            <a:ext cx="1778040" cy="180324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466800" y="1663560"/>
            <a:ext cx="9093240" cy="5181840"/>
          </a:xfrm>
          <a:prstGeom prst="rect">
            <a:avLst/>
          </a:prstGeom>
          <a:noFill/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  <p:txBody>
          <a:bodyPr lIns="50760" rIns="50760" tIns="50760" bIns="50760" anchor="ctr">
            <a:normAutofit fontScale="96000"/>
          </a:bodyPr>
          <a:p>
            <a:pPr marL="675000" indent="-431280">
              <a:lnSpc>
                <a:spcPct val="100000"/>
              </a:lnSpc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211400"/>
                <a:tab algn="l" pos="1312920"/>
                <a:tab algn="l" pos="1519200"/>
                <a:tab algn="l" pos="1828800"/>
                <a:tab algn="l" pos="1895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New features in Mai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9097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211400"/>
                <a:tab algn="l" pos="1312920"/>
                <a:tab algn="l" pos="1519200"/>
                <a:tab algn="l" pos="1828800"/>
                <a:tab algn="l" pos="1895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... arrange messages </a:t>
            </a:r>
            <a:r>
              <a:rPr b="1" i="1" lang="en-US" sz="3200" spc="-1" strike="noStrike">
                <a:solidFill>
                  <a:srgbClr val="ffffff"/>
                </a:solidFill>
                <a:latin typeface="Gill Sans"/>
              </a:rPr>
              <a:t>by thread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2" marL="127080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211400"/>
                <a:tab algn="l" pos="1312920"/>
                <a:tab algn="l" pos="1519200"/>
                <a:tab algn="l" pos="1828800"/>
                <a:tab algn="l" pos="1895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... find replies by clicking arrow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marL="675000" indent="-431280">
              <a:lnSpc>
                <a:spcPct val="100000"/>
              </a:lnSpc>
              <a:spcBef>
                <a:spcPts val="35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211400"/>
                <a:tab algn="l" pos="1312920"/>
                <a:tab algn="l" pos="1519200"/>
                <a:tab algn="l" pos="1828800"/>
                <a:tab algn="l" pos="1895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Receive faxes (as well as send)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marL="675000" indent="-431280">
              <a:lnSpc>
                <a:spcPct val="100000"/>
              </a:lnSpc>
              <a:spcBef>
                <a:spcPts val="35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211400"/>
                <a:tab algn="l" pos="1312920"/>
                <a:tab algn="l" pos="1519200"/>
                <a:tab algn="l" pos="1828800"/>
                <a:tab algn="l" pos="1895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Zip/Unzip support directly in Finder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marL="675000" indent="-431280">
              <a:lnSpc>
                <a:spcPct val="100000"/>
              </a:lnSpc>
              <a:spcBef>
                <a:spcPts val="35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211400"/>
                <a:tab algn="l" pos="1312920"/>
                <a:tab algn="l" pos="1519200"/>
                <a:tab algn="l" pos="1828800"/>
                <a:tab algn="l" pos="1895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Gill Sans"/>
              </a:rPr>
              <a:t>Cmd-Tab</a:t>
            </a: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 application switching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marL="675000" indent="-431280">
              <a:lnSpc>
                <a:spcPct val="100000"/>
              </a:lnSpc>
              <a:spcBef>
                <a:spcPts val="35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211400"/>
                <a:tab algn="l" pos="1312920"/>
                <a:tab algn="l" pos="1519200"/>
                <a:tab algn="l" pos="1828800"/>
                <a:tab algn="l" pos="1895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ast user switching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2692440" y="800280"/>
            <a:ext cx="7620120" cy="5715000"/>
          </a:xfrm>
          <a:prstGeom prst="rect">
            <a:avLst/>
          </a:prstGeom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</p:pic>
      <p:pic>
        <p:nvPicPr>
          <p:cNvPr id="170" name="" descr=""/>
          <p:cNvPicPr/>
          <p:nvPr/>
        </p:nvPicPr>
        <p:blipFill>
          <a:blip r:embed="rId3"/>
          <a:stretch/>
        </p:blipFill>
        <p:spPr>
          <a:xfrm>
            <a:off x="406440" y="254160"/>
            <a:ext cx="1778040" cy="180324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943280" y="1587600"/>
            <a:ext cx="9092880" cy="1409760"/>
          </a:xfrm>
          <a:prstGeom prst="rect">
            <a:avLst/>
          </a:prstGeom>
          <a:noFill/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ffd400"/>
                </a:solidFill>
                <a:latin typeface="Lucida Grande"/>
              </a:rPr>
              <a:t>Questions ?</a:t>
            </a:r>
            <a:endParaRPr b="0" lang="en-US" sz="6400" spc="-1" strike="noStrike">
              <a:solidFill>
                <a:srgbClr val="ffd400"/>
              </a:solidFill>
              <a:latin typeface="Lucida Grande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82680" y="1155600"/>
            <a:ext cx="10414080" cy="2578320"/>
          </a:xfrm>
          <a:prstGeom prst="rect">
            <a:avLst/>
          </a:prstGeom>
          <a:noFill/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  <p:txBody>
          <a:bodyPr lIns="0" rIns="0" t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ffffff"/>
                </a:solidFill>
                <a:latin typeface="Impact"/>
                <a:ea typeface="Impact"/>
              </a:rPr>
              <a:t>Mac OS  X  10.3</a:t>
            </a:r>
            <a:endParaRPr b="0" lang="en-US" sz="12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18" name=""/>
          <p:cNvSpPr/>
          <p:nvPr/>
        </p:nvSpPr>
        <p:spPr>
          <a:xfrm>
            <a:off x="1295280" y="3733920"/>
            <a:ext cx="10388880" cy="2450880"/>
          </a:xfrm>
          <a:prstGeom prst="rect">
            <a:avLst/>
          </a:prstGeom>
          <a:noFill/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2560"/>
                <a:tab algn="l" pos="10414080"/>
              </a:tabLst>
            </a:pPr>
            <a:r>
              <a:rPr b="0" lang="en-US" sz="12000" spc="-1" strike="noStrike">
                <a:solidFill>
                  <a:srgbClr val="ffd400"/>
                </a:solidFill>
                <a:latin typeface="Papyrus"/>
                <a:ea typeface="Papyrus"/>
              </a:rPr>
              <a:t>“</a:t>
            </a:r>
            <a:r>
              <a:rPr b="0" lang="en-US" sz="12000" spc="-1" strike="noStrike">
                <a:solidFill>
                  <a:srgbClr val="ffd400"/>
                </a:solidFill>
                <a:latin typeface="Papyrus"/>
                <a:ea typeface="Papyrus"/>
              </a:rPr>
              <a:t>Panther”</a:t>
            </a:r>
            <a:endParaRPr b="0" lang="en-US" sz="120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transition spd="med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943280" y="190440"/>
            <a:ext cx="9092880" cy="1409760"/>
          </a:xfrm>
          <a:prstGeom prst="rect">
            <a:avLst/>
          </a:prstGeom>
          <a:noFill/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ffd400"/>
                </a:solidFill>
                <a:latin typeface="Lucida Grande"/>
              </a:rPr>
              <a:t>Key Words</a:t>
            </a:r>
            <a:endParaRPr b="0" lang="en-US" sz="6400" spc="-1" strike="noStrike">
              <a:solidFill>
                <a:srgbClr val="ffd400"/>
              </a:solidFill>
              <a:latin typeface="Lucida Grande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254120" y="1663560"/>
            <a:ext cx="4483080" cy="5181840"/>
          </a:xfrm>
          <a:prstGeom prst="rect">
            <a:avLst/>
          </a:prstGeom>
          <a:noFill/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  <p:txBody>
          <a:bodyPr lIns="50760" rIns="50760" tIns="50760" bIns="50760" anchor="ctr">
            <a:normAutofit fontScale="98000"/>
          </a:bodyPr>
          <a:p>
            <a:pPr marL="248760" indent="0">
              <a:lnSpc>
                <a:spcPct val="100000"/>
              </a:lnSpc>
              <a:buNone/>
              <a:tabLst>
                <a:tab algn="l" pos="0"/>
                <a:tab algn="l" pos="825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"/>
              </a:rPr>
              <a:t>Brushed Metal</a:t>
            </a:r>
            <a:endParaRPr b="0" lang="en-US" sz="4800" spc="-1" strike="noStrike">
              <a:solidFill>
                <a:srgbClr val="ffffff"/>
              </a:solidFill>
              <a:latin typeface="Gill Sans"/>
            </a:endParaRPr>
          </a:p>
          <a:p>
            <a:pPr marL="248760" indent="0">
              <a:lnSpc>
                <a:spcPct val="100000"/>
              </a:lnSpc>
              <a:spcBef>
                <a:spcPts val="4000"/>
              </a:spcBef>
              <a:buNone/>
              <a:tabLst>
                <a:tab algn="l" pos="0"/>
                <a:tab algn="l" pos="825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"/>
              </a:rPr>
              <a:t>Safari</a:t>
            </a:r>
            <a:endParaRPr b="0" lang="en-US" sz="4800" spc="-1" strike="noStrike">
              <a:solidFill>
                <a:srgbClr val="ffffff"/>
              </a:solidFill>
              <a:latin typeface="Gill Sans"/>
            </a:endParaRPr>
          </a:p>
          <a:p>
            <a:pPr marL="248760" indent="0">
              <a:lnSpc>
                <a:spcPct val="100000"/>
              </a:lnSpc>
              <a:spcBef>
                <a:spcPts val="4000"/>
              </a:spcBef>
              <a:buNone/>
              <a:tabLst>
                <a:tab algn="l" pos="0"/>
                <a:tab algn="l" pos="825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"/>
              </a:rPr>
              <a:t>iChat AV</a:t>
            </a:r>
            <a:endParaRPr b="0" lang="en-US" sz="4800" spc="-1" strike="noStrike">
              <a:solidFill>
                <a:srgbClr val="ffffff"/>
              </a:solidFill>
              <a:latin typeface="Gill Sans"/>
            </a:endParaRPr>
          </a:p>
          <a:p>
            <a:pPr marL="248760" indent="0">
              <a:lnSpc>
                <a:spcPct val="100000"/>
              </a:lnSpc>
              <a:spcBef>
                <a:spcPts val="4000"/>
              </a:spcBef>
              <a:buNone/>
              <a:tabLst>
                <a:tab algn="l" pos="0"/>
                <a:tab algn="l" pos="825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"/>
              </a:rPr>
              <a:t>Exposé</a:t>
            </a:r>
            <a:endParaRPr b="0" lang="en-US" sz="4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43280" y="190440"/>
            <a:ext cx="9092880" cy="1409760"/>
          </a:xfrm>
          <a:prstGeom prst="rect">
            <a:avLst/>
          </a:prstGeom>
          <a:noFill/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ffd400"/>
                </a:solidFill>
                <a:latin typeface="Lucida Grande"/>
              </a:rPr>
              <a:t>Performance</a:t>
            </a:r>
            <a:endParaRPr b="0" lang="en-US" sz="6400" spc="-1" strike="noStrike">
              <a:solidFill>
                <a:srgbClr val="ffd400"/>
              </a:solidFill>
              <a:latin typeface="Lucida Grande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82760" y="101520"/>
            <a:ext cx="1625400" cy="1625760"/>
          </a:xfrm>
          <a:prstGeom prst="rect">
            <a:avLst/>
          </a:prstGeom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</p:pic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943280" y="1663560"/>
            <a:ext cx="9092880" cy="5181840"/>
          </a:xfrm>
          <a:prstGeom prst="rect">
            <a:avLst/>
          </a:prstGeom>
          <a:noFill/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  <p:txBody>
          <a:bodyPr lIns="50760" rIns="50760" tIns="50760" bIns="50760" anchor="ctr">
            <a:normAutofit fontScale="99000"/>
          </a:bodyPr>
          <a:p>
            <a:pPr marL="696240" indent="-444600">
              <a:lnSpc>
                <a:spcPct val="100000"/>
              </a:lnSpc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211400"/>
                <a:tab algn="l" pos="151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ompiled by GCC 3.3 (better code optimization)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marL="696240" indent="-444600">
              <a:lnSpc>
                <a:spcPct val="100000"/>
              </a:lnSpc>
              <a:spcBef>
                <a:spcPts val="27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211400"/>
                <a:tab algn="l" pos="151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More Quartz/Aqua GUI performance tuning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marL="696240" indent="-444600">
              <a:lnSpc>
                <a:spcPct val="100000"/>
              </a:lnSpc>
              <a:spcBef>
                <a:spcPts val="27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211400"/>
                <a:tab algn="l" pos="151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Automatic filesystem de-fragmentation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marL="696240" indent="-444600">
              <a:lnSpc>
                <a:spcPct val="100000"/>
              </a:lnSpc>
              <a:spcBef>
                <a:spcPts val="27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211400"/>
                <a:tab algn="l" pos="151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Hot file clustering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938160" indent="0">
              <a:lnSpc>
                <a:spcPct val="100000"/>
              </a:lnSpc>
              <a:spcBef>
                <a:spcPts val="5199"/>
              </a:spcBef>
              <a:buNone/>
              <a:tabLst>
                <a:tab algn="l" pos="0"/>
                <a:tab algn="l" pos="1211400"/>
                <a:tab algn="l" pos="151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... </a:t>
            </a:r>
            <a:r>
              <a:rPr b="1" i="1" lang="en-US" sz="3200" spc="-1" strike="noStrike">
                <a:solidFill>
                  <a:srgbClr val="ffffff"/>
                </a:solidFill>
                <a:latin typeface="Gill Sans"/>
              </a:rPr>
              <a:t>significant speedup</a:t>
            </a: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 for most users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943280" y="190440"/>
            <a:ext cx="9092880" cy="1409760"/>
          </a:xfrm>
          <a:prstGeom prst="rect">
            <a:avLst/>
          </a:prstGeom>
          <a:noFill/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ffd400"/>
                </a:solidFill>
                <a:latin typeface="Lucida Grande"/>
              </a:rPr>
              <a:t>Security</a:t>
            </a:r>
            <a:endParaRPr b="0" lang="en-US" sz="6400" spc="-1" strike="noStrike">
              <a:solidFill>
                <a:srgbClr val="ffd400"/>
              </a:solidFill>
              <a:latin typeface="Lucida Grande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482760" y="216000"/>
            <a:ext cx="1625400" cy="1625400"/>
          </a:xfrm>
          <a:prstGeom prst="rect">
            <a:avLst/>
          </a:prstGeom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</p:pic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943280" y="1663560"/>
            <a:ext cx="9092880" cy="5181840"/>
          </a:xfrm>
          <a:prstGeom prst="rect">
            <a:avLst/>
          </a:prstGeom>
          <a:noFill/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  <p:txBody>
          <a:bodyPr lIns="50760" rIns="50760" tIns="50760" bIns="50760" anchor="ctr">
            <a:normAutofit/>
          </a:bodyPr>
          <a:p>
            <a:pPr marL="703440" indent="-449280">
              <a:lnSpc>
                <a:spcPct val="100000"/>
              </a:lnSpc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211400"/>
                <a:tab algn="l" pos="1519200"/>
                <a:tab algn="l" pos="1895400"/>
                <a:tab algn="l" pos="234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Long passwords &amp; shadow passwords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9478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211400"/>
                <a:tab algn="l" pos="1519200"/>
                <a:tab algn="l" pos="1895400"/>
                <a:tab algn="l" pos="234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... </a:t>
            </a:r>
            <a:r>
              <a:rPr b="1" i="1" lang="en-US" sz="3200" spc="-1" strike="noStrike">
                <a:solidFill>
                  <a:srgbClr val="ffffff"/>
                </a:solidFill>
                <a:latin typeface="Gill Sans"/>
              </a:rPr>
              <a:t>much more secure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2" marL="1324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211400"/>
                <a:tab algn="l" pos="1519200"/>
                <a:tab algn="l" pos="1895400"/>
                <a:tab algn="l" pos="234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... need to reset password to take effec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marL="703440" indent="-449280">
              <a:lnSpc>
                <a:spcPct val="100000"/>
              </a:lnSpc>
              <a:spcBef>
                <a:spcPts val="51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211400"/>
                <a:tab algn="l" pos="1519200"/>
                <a:tab algn="l" pos="1895400"/>
                <a:tab algn="l" pos="234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ileVault encrypted home folders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9478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211400"/>
                <a:tab algn="l" pos="1519200"/>
                <a:tab algn="l" pos="1895400"/>
                <a:tab algn="l" pos="234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... easy interface to encrypted disk image feature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2" marL="1324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211400"/>
                <a:tab algn="l" pos="1519200"/>
                <a:tab algn="l" pos="1895400"/>
                <a:tab algn="l" pos="234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... costs some performance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3" marL="17683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211400"/>
                <a:tab algn="l" pos="1519200"/>
                <a:tab algn="l" pos="1895400"/>
                <a:tab algn="l" pos="234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... may cause backup issues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943280" y="190440"/>
            <a:ext cx="9092880" cy="1409760"/>
          </a:xfrm>
          <a:prstGeom prst="rect">
            <a:avLst/>
          </a:prstGeom>
          <a:noFill/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ffd400"/>
                </a:solidFill>
                <a:latin typeface="Lucida Grande"/>
              </a:rPr>
              <a:t>UNIX Foundation</a:t>
            </a:r>
            <a:endParaRPr b="0" lang="en-US" sz="6400" spc="-1" strike="noStrike">
              <a:solidFill>
                <a:srgbClr val="ffd400"/>
              </a:solidFill>
              <a:latin typeface="Lucida Grande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482760" y="216000"/>
            <a:ext cx="1625400" cy="1625400"/>
          </a:xfrm>
          <a:prstGeom prst="rect">
            <a:avLst/>
          </a:prstGeom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</p:pic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943280" y="1663560"/>
            <a:ext cx="9092880" cy="5181840"/>
          </a:xfrm>
          <a:prstGeom prst="rect">
            <a:avLst/>
          </a:prstGeom>
          <a:noFill/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  <p:txBody>
          <a:bodyPr lIns="50760" rIns="50760" tIns="50760" bIns="50760" anchor="ctr">
            <a:normAutofit fontScale="94000"/>
          </a:bodyPr>
          <a:p>
            <a:pPr marL="660960" indent="-422280">
              <a:lnSpc>
                <a:spcPct val="100000"/>
              </a:lnSpc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208160"/>
                <a:tab algn="l" pos="1211400"/>
                <a:tab algn="l" pos="1519200"/>
                <a:tab algn="l" pos="1828800"/>
                <a:tab algn="l" pos="1895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Darwin now based on FreeBSD 5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89100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208160"/>
                <a:tab algn="l" pos="1211400"/>
                <a:tab algn="l" pos="1519200"/>
                <a:tab algn="l" pos="1828800"/>
                <a:tab algn="l" pos="1895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... also new Perl etc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2" marL="12445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208160"/>
                <a:tab algn="l" pos="1211400"/>
                <a:tab algn="l" pos="1519200"/>
                <a:tab algn="l" pos="1828800"/>
                <a:tab algn="l" pos="1895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... default shell now </a:t>
            </a:r>
            <a:r>
              <a:rPr b="1" i="1" lang="en-US" sz="3200" spc="-1" strike="noStrike">
                <a:solidFill>
                  <a:srgbClr val="ffffff"/>
                </a:solidFill>
                <a:latin typeface="Gill Sans"/>
              </a:rPr>
              <a:t>bash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marL="660960" indent="-422280">
              <a:lnSpc>
                <a:spcPct val="100000"/>
              </a:lnSpc>
              <a:spcBef>
                <a:spcPts val="47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208160"/>
                <a:tab algn="l" pos="1211400"/>
                <a:tab algn="l" pos="1519200"/>
                <a:tab algn="l" pos="1828800"/>
                <a:tab algn="l" pos="1895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Journaled HFS+ filesystem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89100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208160"/>
                <a:tab algn="l" pos="1211400"/>
                <a:tab algn="l" pos="1519200"/>
                <a:tab algn="l" pos="1828800"/>
                <a:tab algn="l" pos="1895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... </a:t>
            </a:r>
            <a:r>
              <a:rPr b="1" i="1" lang="en-US" sz="3200" spc="-1" strike="noStrike">
                <a:solidFill>
                  <a:srgbClr val="ffffff"/>
                </a:solidFill>
                <a:latin typeface="Gill Sans"/>
              </a:rPr>
              <a:t>not corruptible</a:t>
            </a: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 by power failure or crash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2" marL="12445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208160"/>
                <a:tab algn="l" pos="1211400"/>
                <a:tab algn="l" pos="1519200"/>
                <a:tab algn="l" pos="1828800"/>
                <a:tab algn="l" pos="1895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... never need to repair filesystem again*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marL="660960" indent="-422280">
              <a:lnSpc>
                <a:spcPct val="100000"/>
              </a:lnSpc>
              <a:spcBef>
                <a:spcPts val="4700"/>
              </a:spcBef>
              <a:buClr>
                <a:srgbClr val="ffffff"/>
              </a:buClr>
              <a:buSzPct val="171000"/>
              <a:buFont typeface="Helvetica"/>
              <a:buChar char="•"/>
              <a:tabLst>
                <a:tab algn="l" pos="1208160"/>
                <a:tab algn="l" pos="1211400"/>
                <a:tab algn="l" pos="1519200"/>
                <a:tab algn="l" pos="1828800"/>
                <a:tab algn="l" pos="1895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1</a:t>
            </a: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 now bundled with OS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43280" y="190440"/>
            <a:ext cx="9092880" cy="1409760"/>
          </a:xfrm>
          <a:prstGeom prst="rect">
            <a:avLst/>
          </a:prstGeom>
          <a:noFill/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ffd400"/>
                </a:solidFill>
                <a:latin typeface="Lucida Grande"/>
              </a:rPr>
              <a:t>Cosmetic Changes</a:t>
            </a:r>
            <a:endParaRPr b="0" lang="en-US" sz="6400" spc="-1" strike="noStrike">
              <a:solidFill>
                <a:srgbClr val="ffd400"/>
              </a:solidFill>
              <a:latin typeface="Lucida Grande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406440" y="254160"/>
            <a:ext cx="1778040" cy="180324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8305920" y="1714680"/>
            <a:ext cx="2743200" cy="1002960"/>
          </a:xfrm>
          <a:prstGeom prst="rect">
            <a:avLst/>
          </a:prstGeom>
          <a:ln w="0">
            <a:noFill/>
          </a:ln>
          <a:effectLst>
            <a:outerShdw dist="63639" dir="2700000" blurRad="0" rotWithShape="0">
              <a:srgbClr val="000000"/>
            </a:outerShdw>
          </a:effectLst>
        </p:spPr>
      </p:pic>
      <p:pic>
        <p:nvPicPr>
          <p:cNvPr id="133" name="" descr=""/>
          <p:cNvPicPr/>
          <p:nvPr/>
        </p:nvPicPr>
        <p:blipFill>
          <a:blip r:embed="rId4"/>
          <a:stretch/>
        </p:blipFill>
        <p:spPr>
          <a:xfrm>
            <a:off x="8305920" y="1714680"/>
            <a:ext cx="2743200" cy="100296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5"/>
          <a:stretch/>
        </p:blipFill>
        <p:spPr>
          <a:xfrm>
            <a:off x="8242200" y="2882880"/>
            <a:ext cx="2870280" cy="1092240"/>
          </a:xfrm>
          <a:prstGeom prst="rect">
            <a:avLst/>
          </a:prstGeom>
          <a:ln w="0">
            <a:noFill/>
          </a:ln>
          <a:effectLst>
            <a:outerShdw dist="63639" dir="2700000" blurRad="0" rotWithShape="0">
              <a:srgbClr val="000000"/>
            </a:outerShdw>
          </a:effectLst>
        </p:spPr>
      </p:pic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8242200" y="2882880"/>
            <a:ext cx="2870280" cy="109224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7"/>
          <a:stretch/>
        </p:blipFill>
        <p:spPr>
          <a:xfrm>
            <a:off x="7365960" y="4191120"/>
            <a:ext cx="4610160" cy="723960"/>
          </a:xfrm>
          <a:prstGeom prst="rect">
            <a:avLst/>
          </a:prstGeom>
          <a:ln w="0">
            <a:noFill/>
          </a:ln>
          <a:effectLst>
            <a:outerShdw dist="63639" dir="2700000" blurRad="0" rotWithShape="0">
              <a:srgbClr val="000000"/>
            </a:outerShdw>
          </a:effectLst>
        </p:spPr>
      </p:pic>
      <p:sp>
        <p:nvSpPr>
          <p:cNvPr id="137" name=""/>
          <p:cNvSpPr/>
          <p:nvPr/>
        </p:nvSpPr>
        <p:spPr>
          <a:xfrm>
            <a:off x="2160720" y="1892160"/>
            <a:ext cx="3880080" cy="487800"/>
          </a:xfrm>
          <a:prstGeom prst="rect">
            <a:avLst/>
          </a:prstGeom>
          <a:noFill/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63360"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ill Sans"/>
                <a:ea typeface="Gill Sans"/>
              </a:rPr>
              <a:t>•</a:t>
            </a:r>
            <a:r>
              <a:rPr b="0" lang="en-US" sz="3200" spc="-1" strike="noStrike">
                <a:solidFill>
                  <a:srgbClr val="ffffff"/>
                </a:solidFill>
                <a:latin typeface="Gill Sans"/>
                <a:ea typeface="Gill Sans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Gill Sans"/>
                <a:ea typeface="Gill Sans"/>
              </a:rPr>
              <a:t>Weaker pinstripes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8" name=""/>
          <p:cNvSpPr/>
          <p:nvPr/>
        </p:nvSpPr>
        <p:spPr>
          <a:xfrm>
            <a:off x="2017800" y="2806560"/>
            <a:ext cx="4988160" cy="975240"/>
          </a:xfrm>
          <a:prstGeom prst="rect">
            <a:avLst/>
          </a:prstGeom>
          <a:noFill/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63360"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ill Sans"/>
                <a:ea typeface="Gill Sans"/>
              </a:rPr>
              <a:t>•</a:t>
            </a:r>
            <a:r>
              <a:rPr b="0" lang="en-US" sz="3200" spc="-1" strike="noStrike">
                <a:solidFill>
                  <a:srgbClr val="ffffff"/>
                </a:solidFill>
                <a:latin typeface="Gill Sans"/>
                <a:ea typeface="Gill Sans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Gill Sans"/>
                <a:ea typeface="Gill Sans"/>
              </a:rPr>
              <a:t>Solid window title bar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marL="63360"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  <a:ea typeface="Gill San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ill Sans"/>
                <a:ea typeface="Gill Sans"/>
              </a:rPr>
              <a:t>... with sunken buttons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9" name=""/>
          <p:cNvSpPr/>
          <p:nvPr/>
        </p:nvSpPr>
        <p:spPr>
          <a:xfrm>
            <a:off x="2200680" y="4114800"/>
            <a:ext cx="3674160" cy="487800"/>
          </a:xfrm>
          <a:prstGeom prst="rect">
            <a:avLst/>
          </a:prstGeom>
          <a:noFill/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63360"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ill Sans"/>
                <a:ea typeface="Gill Sans"/>
              </a:rPr>
              <a:t>•</a:t>
            </a:r>
            <a:r>
              <a:rPr b="0" lang="en-US" sz="3200" spc="-1" strike="noStrike">
                <a:solidFill>
                  <a:srgbClr val="ffffff"/>
                </a:solidFill>
                <a:latin typeface="Gill Sans"/>
                <a:ea typeface="Gill Sans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Gill Sans"/>
                <a:ea typeface="Gill Sans"/>
              </a:rPr>
              <a:t>Button-style tabs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0" name=""/>
          <p:cNvSpPr/>
          <p:nvPr/>
        </p:nvSpPr>
        <p:spPr>
          <a:xfrm>
            <a:off x="2064240" y="5029200"/>
            <a:ext cx="5042880" cy="487800"/>
          </a:xfrm>
          <a:prstGeom prst="rect">
            <a:avLst/>
          </a:prstGeom>
          <a:noFill/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63360"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ill Sans"/>
                <a:ea typeface="Gill Sans"/>
              </a:rPr>
              <a:t>•</a:t>
            </a:r>
            <a:r>
              <a:rPr b="0" lang="en-US" sz="3200" spc="-1" strike="noStrike">
                <a:solidFill>
                  <a:srgbClr val="ffffff"/>
                </a:solidFill>
                <a:latin typeface="Gill Sans"/>
                <a:ea typeface="Gill Sans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Gill Sans"/>
                <a:ea typeface="Gill Sans"/>
              </a:rPr>
              <a:t>Less transparent menus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1" name=""/>
          <p:cNvSpPr/>
          <p:nvPr/>
        </p:nvSpPr>
        <p:spPr>
          <a:xfrm>
            <a:off x="1920960" y="5943600"/>
            <a:ext cx="8043480" cy="487800"/>
          </a:xfrm>
          <a:prstGeom prst="rect">
            <a:avLst/>
          </a:prstGeom>
          <a:noFill/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63360"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ill Sans"/>
                <a:ea typeface="Gill Sans"/>
              </a:rPr>
              <a:t>•</a:t>
            </a:r>
            <a:r>
              <a:rPr b="0" lang="en-US" sz="3200" spc="-1" strike="noStrike">
                <a:solidFill>
                  <a:srgbClr val="ffffff"/>
                </a:solidFill>
                <a:latin typeface="Gill Sans"/>
                <a:ea typeface="Gill Sans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Gill Sans"/>
                <a:ea typeface="Gill Sans"/>
              </a:rPr>
              <a:t>Curved slide-down animation for sheets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943280" y="190440"/>
            <a:ext cx="9092880" cy="1409760"/>
          </a:xfrm>
          <a:prstGeom prst="rect">
            <a:avLst/>
          </a:prstGeom>
          <a:noFill/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ffd400"/>
                </a:solidFill>
                <a:latin typeface="Lucida Grande"/>
              </a:rPr>
              <a:t>Finder</a:t>
            </a:r>
            <a:endParaRPr b="0" lang="en-US" sz="6400" spc="-1" strike="noStrike">
              <a:solidFill>
                <a:srgbClr val="ffd400"/>
              </a:solidFill>
              <a:latin typeface="Lucida Grande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482760" y="343080"/>
            <a:ext cx="1625400" cy="162540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3"/>
          <a:stretch/>
        </p:blipFill>
        <p:spPr>
          <a:xfrm>
            <a:off x="2590920" y="1549440"/>
            <a:ext cx="7810560" cy="5423040"/>
          </a:xfrm>
          <a:prstGeom prst="rect">
            <a:avLst/>
          </a:prstGeom>
          <a:ln w="0">
            <a:noFill/>
          </a:ln>
          <a:effectLst>
            <a:outerShdw dist="63639" dir="2700000" blurRad="0" rotWithShape="0">
              <a:srgbClr val="000000">
                <a:alpha val="75000"/>
              </a:srgbClr>
            </a:outerShdw>
          </a:effectLst>
        </p:spPr>
      </p:pic>
      <p:pic>
        <p:nvPicPr>
          <p:cNvPr id="145" name="" descr=""/>
          <p:cNvPicPr/>
          <p:nvPr/>
        </p:nvPicPr>
        <p:blipFill>
          <a:blip r:embed="rId4"/>
          <a:stretch/>
        </p:blipFill>
        <p:spPr>
          <a:xfrm>
            <a:off x="2463840" y="1511280"/>
            <a:ext cx="8686800" cy="5499000"/>
          </a:xfrm>
          <a:prstGeom prst="rect">
            <a:avLst/>
          </a:prstGeom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</p:pic>
      <p:sp>
        <p:nvSpPr>
          <p:cNvPr id="146" name=""/>
          <p:cNvSpPr/>
          <p:nvPr/>
        </p:nvSpPr>
        <p:spPr>
          <a:xfrm>
            <a:off x="2057400" y="1282680"/>
            <a:ext cx="2627280" cy="1155600"/>
          </a:xfrm>
          <a:prstGeom prst="pie">
            <a:avLst/>
          </a:prstGeom>
          <a:noFill/>
          <a:ln w="38160">
            <a:solidFill>
              <a:srgbClr val="ff0600"/>
            </a:solidFill>
            <a:miter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7" name=""/>
          <p:cNvSpPr/>
          <p:nvPr/>
        </p:nvSpPr>
        <p:spPr>
          <a:xfrm>
            <a:off x="4102200" y="1384200"/>
            <a:ext cx="1270080" cy="1155960"/>
          </a:xfrm>
          <a:prstGeom prst="pie">
            <a:avLst/>
          </a:prstGeom>
          <a:noFill/>
          <a:ln w="38160">
            <a:solidFill>
              <a:srgbClr val="ff0600"/>
            </a:solidFill>
            <a:miter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8" name=""/>
          <p:cNvSpPr/>
          <p:nvPr/>
        </p:nvSpPr>
        <p:spPr>
          <a:xfrm>
            <a:off x="7594560" y="1384200"/>
            <a:ext cx="3846600" cy="1155960"/>
          </a:xfrm>
          <a:prstGeom prst="pie">
            <a:avLst/>
          </a:prstGeom>
          <a:noFill/>
          <a:ln w="38160">
            <a:solidFill>
              <a:srgbClr val="ff0600"/>
            </a:solidFill>
            <a:miter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9" name=""/>
          <p:cNvSpPr/>
          <p:nvPr/>
        </p:nvSpPr>
        <p:spPr>
          <a:xfrm>
            <a:off x="1866960" y="2006640"/>
            <a:ext cx="2589120" cy="5003640"/>
          </a:xfrm>
          <a:prstGeom prst="pie">
            <a:avLst/>
          </a:prstGeom>
          <a:noFill/>
          <a:ln w="38160">
            <a:solidFill>
              <a:srgbClr val="ff0600"/>
            </a:solidFill>
            <a:miter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0" name=""/>
          <p:cNvSpPr/>
          <p:nvPr/>
        </p:nvSpPr>
        <p:spPr>
          <a:xfrm>
            <a:off x="8102520" y="2819520"/>
            <a:ext cx="2184480" cy="1422360"/>
          </a:xfrm>
          <a:prstGeom prst="pie">
            <a:avLst/>
          </a:prstGeom>
          <a:noFill/>
          <a:ln w="38160">
            <a:solidFill>
              <a:srgbClr val="ff0600"/>
            </a:solidFill>
            <a:miter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943280" y="190440"/>
            <a:ext cx="9092880" cy="1409760"/>
          </a:xfrm>
          <a:prstGeom prst="rect">
            <a:avLst/>
          </a:prstGeom>
          <a:noFill/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ffd400"/>
                </a:solidFill>
                <a:latin typeface="Lucida Grande"/>
              </a:rPr>
              <a:t>Safari</a:t>
            </a:r>
            <a:endParaRPr b="0" lang="en-US" sz="6400" spc="-1" strike="noStrike">
              <a:solidFill>
                <a:srgbClr val="ffd400"/>
              </a:solidFill>
              <a:latin typeface="Lucida Grande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482760" y="343080"/>
            <a:ext cx="1625400" cy="1625400"/>
          </a:xfrm>
          <a:prstGeom prst="rect">
            <a:avLst/>
          </a:prstGeom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</p:pic>
      <p:pic>
        <p:nvPicPr>
          <p:cNvPr id="153" name="" descr=""/>
          <p:cNvPicPr/>
          <p:nvPr/>
        </p:nvPicPr>
        <p:blipFill>
          <a:blip r:embed="rId3"/>
          <a:stretch/>
        </p:blipFill>
        <p:spPr>
          <a:xfrm>
            <a:off x="2209680" y="1536840"/>
            <a:ext cx="9792000" cy="1523880"/>
          </a:xfrm>
          <a:prstGeom prst="rect">
            <a:avLst/>
          </a:prstGeom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</p:pic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704680" y="3238200"/>
            <a:ext cx="9093240" cy="3784680"/>
          </a:xfrm>
          <a:prstGeom prst="rect">
            <a:avLst/>
          </a:prstGeom>
          <a:noFill/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  <p:txBody>
          <a:bodyPr lIns="50760" rIns="50760" tIns="50760" bIns="50760" anchor="ctr">
            <a:normAutofit fontScale="96000"/>
          </a:bodyPr>
          <a:p>
            <a:pPr marL="675000" indent="-431280">
              <a:lnSpc>
                <a:spcPct val="84000"/>
              </a:lnSpc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211400"/>
                <a:tab algn="l" pos="151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New high quality web browser from Apple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909720" indent="0">
              <a:lnSpc>
                <a:spcPct val="84000"/>
              </a:lnSpc>
              <a:buNone/>
              <a:tabLst>
                <a:tab algn="l" pos="0"/>
                <a:tab algn="l" pos="1211400"/>
                <a:tab algn="l" pos="151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... actually came out a few months ago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marL="675000" indent="-431280">
              <a:lnSpc>
                <a:spcPct val="100000"/>
              </a:lnSpc>
              <a:spcBef>
                <a:spcPts val="17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211400"/>
                <a:tab algn="l" pos="151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Based on KHTML core (WebKit), Cocoa GUI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909720" indent="0">
              <a:lnSpc>
                <a:spcPct val="84000"/>
              </a:lnSpc>
              <a:buNone/>
              <a:tabLst>
                <a:tab algn="l" pos="0"/>
                <a:tab algn="l" pos="1211400"/>
                <a:tab algn="l" pos="151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... lead developer is ex-Camino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marL="675000" indent="-431280">
              <a:lnSpc>
                <a:spcPct val="100000"/>
              </a:lnSpc>
              <a:spcBef>
                <a:spcPts val="17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211400"/>
                <a:tab algn="l" pos="151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Great bookmark managemen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marL="675000" indent="-431280">
              <a:lnSpc>
                <a:spcPct val="100000"/>
              </a:lnSpc>
              <a:spcBef>
                <a:spcPts val="17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211400"/>
                <a:tab algn="l" pos="151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Not quite a match for Camino yet (IMHO)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909720" indent="0">
              <a:lnSpc>
                <a:spcPct val="94000"/>
              </a:lnSpc>
              <a:buNone/>
              <a:tabLst>
                <a:tab algn="l" pos="0"/>
                <a:tab algn="l" pos="1211400"/>
                <a:tab algn="l" pos="151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ill Sans"/>
              </a:rPr>
              <a:t>... </a:t>
            </a:r>
            <a:r>
              <a:rPr b="1" i="1" lang="en-US" sz="3200" spc="-1" strike="noStrike">
                <a:solidFill>
                  <a:srgbClr val="ffffff"/>
                </a:solidFill>
                <a:latin typeface="Gill Sans"/>
              </a:rPr>
              <a:t>but</a:t>
            </a:r>
            <a:r>
              <a:rPr b="0" i="1" lang="en-US" sz="3200" spc="-1" strike="noStrike">
                <a:solidFill>
                  <a:srgbClr val="ffffff"/>
                </a:solidFill>
                <a:latin typeface="Gill Sans"/>
              </a:rPr>
              <a:t> </a:t>
            </a:r>
            <a:r>
              <a:rPr b="1" i="1" lang="en-US" sz="3200" spc="-1" strike="noStrike">
                <a:solidFill>
                  <a:srgbClr val="ffffff"/>
                </a:solidFill>
                <a:latin typeface="Gill Sans"/>
              </a:rPr>
              <a:t>watch this space !!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